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cashreg.wav" ContentType="audio/x-wav"/>
  <Override PartName="/ppt/media/image10.png" ContentType="image/png"/>
  <Override PartName="/ppt/media/image1.gif" ContentType="image/gif"/>
  <Override PartName="/ppt/media/09.%20Who%20Correct.wav" ContentType="audio/x-wav"/>
  <Override PartName="/ppt/media/image2.gif" ContentType="image/gif"/>
  <Override PartName="/ppt/media/sting.wav" ContentType="audio/x-wav"/>
  <Override PartName="/ppt/media/drumroll.wav" ContentType="audio/x-wav"/>
  <Override PartName="/ppt/media/image3.png" ContentType="image/png"/>
  <Override PartName="/ppt/media/image5.gif" ContentType="image/gif"/>
  <Override PartName="/ppt/media/Tarda.wav" ContentType="audio/x-wav"/>
  <Override PartName="/ppt/media/image9.png" ContentType="image/png"/>
  <Override PartName="/ppt/media/image6.gif" ContentType="image/gif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396-3017-43EF-9882-78785463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A6C-7BCE-4922-A71B-E1CA316C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2C3-9A7E-484F-9734-128657ED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A1C-1DE1-4E65-B093-3BF91D3F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534-BE42-43F9-ABC8-081906FC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D46-408C-4F61-9F6A-5CF2C0CA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858-0AE1-4A31-A3C4-89B5CB84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286-7D6A-4A8C-83D0-E4CA701D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5DA-1A6E-458A-BF5E-3D0CCE64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35A-3545-4034-9CD5-B3E17F1A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56B-B455-40E6-9F19-1E99A94E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8BB-AB2E-4A5A-BFA8-96243C4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4F8A-FA7F-47A1-A6B3-47B0F35D30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sting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Who Wants To Be A Millionaire?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4812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Mrs Mance’s Ed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1720800" cy="221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metres in 4k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metres in 4k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71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ow many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Arial"/>
              </a:rPr>
              <a:t>centimetr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in 1 met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1720" y="4724280"/>
            <a:ext cx="8155080" cy="838440"/>
          </a:xfrm>
          <a:prstGeom prst="hexagon">
            <a:avLst>
              <a:gd name="adj" fmla="val 30891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ow many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Arial"/>
              </a:rPr>
              <a:t>centimetr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in 1 met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716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cm in 3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cm in 3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4140360" y="32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4716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cm in 3.75 metr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7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cm in 3.75 metr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7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4716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539640" y="37162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metres are there in a kilomet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m in 6c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m in 6c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4716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cm=?m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cm=?m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4716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39640" y="278136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metres are there in a kilometre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mm=?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mm=?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716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2000m = ?km</a:t>
            </a: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1720" y="4724280"/>
            <a:ext cx="8155080" cy="838440"/>
          </a:xfrm>
          <a:prstGeom prst="hexagon">
            <a:avLst>
              <a:gd name="adj" fmla="val 30891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2000m = ?k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4716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71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mm = ?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39640" y="278136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mm = ?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4716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m = ?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m = ?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4716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132000" y="1700280"/>
            <a:ext cx="2409840" cy="2409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138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 walked for 100m. How many cm is th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 walked for 100m. How many cm is th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4716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How many km in 3650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5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.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5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How many km in 3650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5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.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5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16" fill="hold"/>
                                        <p:tgtEl>
                                          <p:spTgt spid="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47840" y="1433520"/>
            <a:ext cx="513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1840" y="136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8160" y="1844640"/>
            <a:ext cx="65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Better luck next tim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132000" y="3141720"/>
            <a:ext cx="2556000" cy="2368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1385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chool gate is .75km from the front door. How many metres is t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7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0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chool gate is .75km from the front door. How many metres is t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7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0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4716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I had a ruler with 500 mm marked on it. How many cm long would it 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I had a ruler with 500 mm marked on it. How many cm long would it 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4716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551040" cy="39909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>
            <a:off x="1547640" y="5013360"/>
            <a:ext cx="6524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GRATULATIONS!!!!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75742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Pitchford</cp:lastModifiedBy>
  <dcterms:modified xsi:type="dcterms:W3CDTF">2006-10-30T11:55:57Z</dcterms:modified>
  <cp:revision>11</cp:revision>
  <dc:subject/>
  <dc:title>Who Wants To Be A Millionaire?  </dc:title>
</cp:coreProperties>
</file>